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FEBB-8DA7-4F4D-A393-4FA7031B3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struction.greenriver.edu/kmarr/Biology%20211/Lecture%20Notes/Cellular%20Respiration%20Webpage/Respiration%20Web%20N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-level - direct transfer of phosphate to 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ve - formation of ATP using energy from series of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.miami.edu/~cmallery/150/makeatp/SLP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parknotes.com/biology/cellrespiration/oxidativephosphorylation/section3.r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icro.magnet.fsu.edu/cells/mitochondria/mitochondri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 - bacteria that cause botulism, tetanus, protist Trichonym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 - yeast, E. coli bacteria that live in our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ssdbio.weebly.com/phtoresp1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actfictionfancy.wordpress.com/2010/01/05/photosynthesi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struction.greenriver.edu/kmarr/Biology%20211/Lecture%20Notes/Cellular%20Respiration%20Webpage/Respiration%20Web%20N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F3D-D03E-48AC-A277-668F185D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214-F8D4-4A37-BFCA-62F41616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732-5BC0-4B4F-8E97-D987439F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E2D-4764-4E91-88EA-7ED462D0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6DE-A5F7-421C-AA0B-A8F5D99E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338-7848-4342-BEA2-F0A1DD7E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C8B-3A0B-43C4-9B3A-1F8693CB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7A9-E49D-4160-99E8-7E2DD1DF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7B5-515F-4A0C-BC2C-D99B2514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108-7457-400D-962F-480816E9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383-B773-41C5-9CA9-82184750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485-B44F-47E2-AF55-F711D8F5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8894-0FD6-44AB-ACB3-18BC858D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 &amp;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Electron Transpor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first 3 stages are oxid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a large amount of ATP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74720" y="609480"/>
            <a:ext cx="75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can be produc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06560" y="1981080"/>
            <a:ext cx="353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76360" y="1981080"/>
            <a:ext cx="438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hou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19360" y="1981080"/>
            <a:ext cx="390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there is no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rganisms can extract energy from food without using oxygen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lower amount of free energy release in anaerobic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what obligate aerob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naerob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tive anaerob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57280" y="304920"/>
            <a:ext cx="4353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s energy from food in the presence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used to synthesize ATP from ADP and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ukaryote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1855800"/>
            <a:ext cx="84582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s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transport &amp;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74720" y="609480"/>
            <a:ext cx="75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break down one molecule of glucose into two molecules of pyru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TP and NADH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is transported into the mitochondria and is oxidized, forming acety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ADH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tyl-CoA enters a cycle and is completely oxidized t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,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1:56:34Z</dcterms:created>
  <dc:creator>rubina khan</dc:creator>
  <dc:description/>
  <dc:language>en-US</dc:language>
  <cp:lastModifiedBy>rubina khan</cp:lastModifiedBy>
  <dcterms:modified xsi:type="dcterms:W3CDTF">2013-03-19T02:37:21Z</dcterms:modified>
  <cp:revision>63</cp:revision>
  <dc:subject/>
  <dc:title>Cellular Respiration</dc:title>
</cp:coreProperties>
</file>